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057-FED4-489C-8F19-E222C737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F64-52EC-43F5-AABA-026C00F4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1D5-6EB5-4CC8-9053-558C08E4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8BA-32F7-4574-9BB3-CEB6C682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468-1930-4798-A8AD-44E5FE2C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430-761D-406D-8AC9-1F434443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D184-19A4-45B4-9071-A4C03D33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B77-0594-4CA9-8616-5A02EE44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E39-F09B-4018-AF0D-6D0912D4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45E-92C4-4001-AAA2-EFA0FDFC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F2F-D49F-40A0-BC5C-E7813A52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E37-C0DF-4C10-A852-CEAC6AEC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CE59-684F-4D39-B7E9-CB57256BE9D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302904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انجليزية البريطانية و الانجليزية الأمريك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 Different Sp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شتمل على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u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60948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روف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58128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نتهي ب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257800"/>
            <a:ext cx="77724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نتهي ب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 (لاحظ حرف العلة قبلها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- Differen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114300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لمات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hum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di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travell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kilome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lab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refu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 colour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 favour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 centimet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 cen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911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rubb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ur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fla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pe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sho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lo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26:55Z</dcterms:created>
  <dc:creator>Bafayad</dc:creator>
  <dc:description/>
  <dc:language>en-US</dc:language>
  <cp:lastModifiedBy>معمل الانجليزي</cp:lastModifiedBy>
  <dcterms:modified xsi:type="dcterms:W3CDTF">2005-04-04T04:47:35Z</dcterms:modified>
  <cp:revision>7</cp:revision>
  <dc:subject/>
  <dc:title>عرض تقديمي من PowerPoint</dc:title>
</cp:coreProperties>
</file>